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1BF-A907-479A-8C63-1F23F1BA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DE6-BF09-4B7A-BC2C-9AB6D0C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735-55EA-41F0-83BB-46B263C8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A17-F46A-412B-85C7-538C37B9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D135-5D2B-41DA-A16D-20DDC0F9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10E-F986-45B2-A077-D95475C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60C2-96A2-4D37-816D-03ADDA5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612C-A80C-4665-8E04-8F2A871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538-E41C-4352-8FBB-B4343678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357-8718-4228-BF60-C6D79E16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6AA1-BB08-40D2-BFEF-FE17353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625-DB81-4618-BB75-3A6BB6C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B03D-345D-4B46-A156-6D27BD7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22D8-3EC4-40C9-98DA-10450D1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D723-95BD-425C-8797-8313285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F645-3C6C-4A36-A63A-441F7B25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7E1-1890-4C72-8A00-C794800E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042-8B4A-4A7E-B4D4-2CE30F00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59A-A5D3-4372-96A2-97E02E51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7F3-0572-4FF4-A760-2317848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6EA-66A9-4CA7-842E-312D0747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AF0-8B81-46A8-8320-F024C6E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A25-A172-452A-A2BC-EB9A9D0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67A-ACA5-4EF8-9C54-D9A6F76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EE9-5E08-4C8D-A07B-02F2080BD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91F-3C42-4578-814F-A4385619D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EL DISCURSO ESCRI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critura aparece alrededor  del año 3500 a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scritura alfabét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surge alrededor del 2000 a.C. entre Egipto y Mesopota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fenicios la extienden ( siglo X a.C.) los hablantes de lengua semítica representan sólo sonidos consonan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griegos, añaden las vocales (s.VII) a.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asgos  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ersona ya tiene una competencia linguística fundada en la actividad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de las primeras exigencias es la adquisición d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ódigo gráfico de la len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á sometida a un aprendizaj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stitucionaliz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que tiene lugar en un centro de i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eje fundamental de la instrucción 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apacidad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ee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n el sentido de comprender, interpretar, contextualizar) textos elaborados y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bi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dar cuenta de la adquisición de estos conoc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dquisición de 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n el momento en que se aprende el código escrito, aparece u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bolismo d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3200" spc="-1" strike="noStrike">
                <a:solidFill>
                  <a:srgbClr val="ff0066"/>
                </a:solidFill>
                <a:latin typeface="Arial"/>
              </a:rPr>
              <a:t>segundo orden,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ometido al código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spués de la adquisición se convierte en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simbolismo direct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y no necesita más la mediación de la lengua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Niveles de competencia escrita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sde el más sencillo al más complejo distingui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Nivel ejecutiv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dominio del código escri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Funcion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 capacidad de operar en la cotidiani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Instrument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 permite el acceso a la inform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pistémic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 ejercio de la creación y de la críti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spectos psicológicos de la escritura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ctura y escritura se hacen en silencio y generalmente en sol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texto escrito contiene dos procesos: 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escri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producción) y la 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lec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(interpret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proceso de la escritur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lower y Hayes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desarrolla por etapas (siguiendo el modelo aristotél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3 procesos principa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planificación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incluye la definición de los objetivos, la generación de ideas y su organización (etapa de preescritur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tex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traduce los contenidos mentales 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ementos de la leng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lecciones a nivel morfosintáctico, lexico-semántico y ortográf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roceso de revisión,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implica  operaciones de relectura que van  evaluando los resultados de la tex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reelaboración del texto para llegar al resultado f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l proceso de 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lectu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cuentro físico entre un texto y un Recep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s se consideraba un proceso pasivo, pero desde los avances de la pragmática y de la ciencia cognitiva se considera al </a:t>
            </a:r>
            <a:r>
              <a:rPr b="0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lect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mo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otagonist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la lectura,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sujeto activ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establece, en diferida, una comunicación con el autor del 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ctor activa en su mente los conocimientos que tiene para seleccionar entre ellos los más adecuados para la interpretación del mensaje escr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escritura el lenguaje verbal recoje todo el peso de la comuni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critura es capaz de cambiar el estilo cognitivo y los modelos de organización social de un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istancia que permite la lengua escrita acentúa el poder humano de abstracción y de reflección.(Godo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oporte de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o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 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habl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oporte de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escr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bjetos re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que aparecen en contextos mate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e pueden llamar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condicion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66"/>
                </a:solidFill>
                <a:latin typeface="Arial"/>
              </a:rPr>
              <a:t>paratextual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se pueden distinguir 4 aspec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condiciones paratextuales:</a:t>
            </a: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material de soport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pel (de vario tipo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izarra, piedra, cartel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ordenadores permiten la aparición de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critura en pantalla, y sustituyen la n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texto con la de hipertexto, que perm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 lector crear su propio itinerari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ectura, o intervenir en é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Forma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medida del papel, tamaño de la página, cantidad de pági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Tipografía y diseño gráfic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tamaño y grosor de las letras, disposición a toda página o en columna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66"/>
                </a:solidFill>
                <a:uFillTx/>
                <a:latin typeface="Verdana"/>
              </a:rPr>
              <a:t>Combinación con otros códigos semiótic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dibujos, foto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El nivel morfosintác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tura académ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 caracteriza por sus requisitos de imparcialidad, neutralidad y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construcciones sintácticas son generalmente de forma canónica y neu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bras literari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por pertenecer al ámbito de la creación, suelen tener un repertorio rico y variado de registros, palabras y fraseologí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stran una libertad considerable, a diferencia de la obras académicas  que deben responder a exigencias de claridad, precisión y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algunos textos literarios o guiones cinemátográficos, se crean diálogos que de acuerdo con el papel de los protagonistas, pueden presentar rasgos coloqu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embargo, se trata de una coloquialidad construida para crear verosimilit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ublic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sa textos escritos con estilo coloquial, por sus efectos persuasiv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nguaj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dministrativo y jurídic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sa textos escritos en que la creación está ausente y se repiten fórmulas conven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organización textual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párraf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unidad básica de un texto y es constituido por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junto de enunciados relacionados entre sí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or el conten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junto de párrafos se organiza e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apartados, capítulos y par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puntu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tinguimos ent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mínim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propia de los escritores inexpertos, en que sólo aparecen puntos y com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clás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pia de los escritores  expertos, con un uso variado de todos los signos de puntuació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66"/>
                </a:solidFill>
                <a:latin typeface="Verdana"/>
              </a:rPr>
              <a:t>puntuación enfátic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aracterísca de la publicidad, en la que abundan los puntos y los períodos breves para obtener un efecto incisivo y cor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titulación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Tít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ubtít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rganizan el contenido del texto y aparecen en el índice para que el lector pueda conocer el contenido del libro de forma sint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función primordial de la lengua escrita es la conservación de la memoria de los acontecimientos. (Stubbs y K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vida social deben mantenerse por escrito todos los actos que adquieren un valor público y oficial (nacer, morir, casarse.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El texto escrit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puede analizar y consult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rmanece invariab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testimonio de la vida de un individuo y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extiende a destinatarios diversos y lej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l mundo hay un 40% de la población adulta que no conoce la escritura, y un 25% que está  debajo de los niveles de alfabetización fun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prioridad del mundo oral sobre el escr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fuente UNES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modalidad escrita es vehículo de 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xpresión política, social, jurídica, administr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xpresión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unicación periodís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gún los linguistas es un sistema secundario, no superior  sino diferente del sistema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situación de enun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caracteriza por los siguientes rasg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uación independiente y autónoma de las personas que se comunican a través de un texto. Emisores y recptores se llaman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escritore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lectore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omunicación tiene lugar “en absentia”: el momento de la escritura y el de la lectura no coinc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ratarse de una interacción diferida, el texto debe contener las instrucciones necesarias para ser interpre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carácte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onolog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dquiere una organización precisa y estructurada. Puede haber tambié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iálo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or ejemplo en los guiones cinematográficos, en las novelas, en las entrevistas periodísticas) pero suelen ser más construidos y pulido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adquisición de la competencia esc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sigue el mismo proceso que la lengua o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diciones normales de socialización sólo en la segunda infancia (5-6 años) se empieza el aprendizaje sistemático de la lengua escr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10:25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